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732-82F4-4FEF-8ACC-B6C762DD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106-7E3D-4A4C-8136-8EFCB849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FDE-BB9D-49FE-8EC8-D12FB119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478-AB86-4AB4-B88C-64014527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000F-ADEB-4338-8356-285BAB04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A65B-6A11-42FC-A26A-CB813E50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0223-4F5B-4CB7-BA86-7434CCC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4A69-FCCB-4CD0-A464-972223FA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DD51-3099-4765-A5B8-0253E9C0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CF58-C18D-4798-8900-C4E2C9BC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9A7F-4133-441C-A1CB-3E3C1979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DD0-5866-43C1-B27F-CE29E4E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89CB-5615-413A-BD1C-F7517DC3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3803-F4C1-437C-A9BE-0139DA72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71DE-B34C-40EF-9017-AFB5FEF7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F19E-C882-4A84-8440-0BE510DA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CF61-A4B7-48AD-A100-77F33780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336-E4ED-4C91-9C0F-D5415BFD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B56-0FCA-465D-B416-89921B8F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B36-96F4-43AC-A389-C3903731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874-E89E-4B6A-A7AA-51317DB2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FC9-FAF3-42EB-BDEC-E3ADE9B4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286-A402-49AB-A799-C3FCFC4B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1B8-FD85-4262-A897-9C693946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4858-849B-4216-8C59-E645A6E7E0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CFDA-67A2-4CBA-AEF3-59F4A88D17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cts About the AP Biology Exam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Raw score for section I)=(Number answered correctly)-(Number wrong÷4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vert raw score to composite sco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Composite score of section I=0.75x(Raw score for Section I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Raw score for section II)=(Points for essay 1)+(Points for essay 2)+(Points for essay 3)+(Points for essay 4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Composite score for section II)=1.5 x(Raw score for section I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TS Grading Syste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2666880"/>
          <a:ext cx="8839080" cy="367056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posite sc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P Gr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-1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xtremely well qualifi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-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ell Qualifi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-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ualifi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-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ssibly Qualifi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-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 recommend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7467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1: Pace Yourself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ke your time--do not need to answer every question--mistakes accounted for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 for questions you know skip the ones you don’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3505320"/>
          <a:ext cx="7238880" cy="249228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 get sc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ction 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ction 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to 3 ess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ess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to 4 ess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 ess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 ess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2: Three-Pass Syste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fect score- do not have to answer every ques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kip most difficult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asiest questions fir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dium questions second pa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d question last pa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TCH THE BUBBLES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3: Process of Elimination (POE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tructure that act as the sites of gas exchange in a woody stem are th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u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il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ntice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ngl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ntil bea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4: Aggressive Guess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 wrong answers = Loss of 1 poi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iminate 2 answer choices--gues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5: Word Associ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now your science vocabular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lp you to narrow down choic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6: Mnemonic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ng Phillip of German came over for great spagett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ngdom, phylum, class, order, family, genus, spec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7: EXCEPT ques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0 percent -Except/Not/Leas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ong--Least correc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oss of the ones that apply to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8: ETS Essa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TS readers looking for hot button terms= poi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 each question 2x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0 minute period- brainstorm write down key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utline essay using key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sks for 2 examples--give just 2 exampl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diagrams but must label correct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ucture of Tes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 Hours lo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vided into two se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tion I --100 multiple choice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tion II--4 Essay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gnal Word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detailed verbal picture”just the facts”--not opin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conversation among ide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ai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take something complicated and make it more clear--simpler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ar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answer that is focused on similarities between 2 th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a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answer emphasizing dif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ction 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00 multiple choice ques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5 seconds per ques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0 minutes to answer 100 ques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 par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ular multiple choice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ching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stions dealing with experiments or da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ction I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 Essay ques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0 minute reading perio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90 minutes to answer all 4 essay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2 minutes per essa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ction I---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8 multiple choice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If a segment of DNA reads 5’-ATG-CCA-GCT-3’, the mRNA strand that results  will b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A) 3’-TAC-GGT-CGA-5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B) 3’-UAC-AGT-CAA-5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C) 3’-TAA-GCU-CGA-5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D) 3’-UAC-GCU-CGA-5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ction I--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eriments or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diagram and multiple choice questions about diagra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on sense/ logical deduction more useful than strict scien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ction I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 free response essay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vided into parts--vary in difficul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a 1: Molecules and cel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a 2: Heredity and Evolu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a 3: Organisms and popul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mple Free Respons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zymes are biological catalys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Relate the chemical structure of an enzyme to its catalytic activity and specific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Design an experiment that investigates the influence of temperature, substrate concentration, or pH on the activity of an enzy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Describe what information concerning enzyme structure could be inferred from the experiment you have design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or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ximum points Section I-100 p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% of 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ximum points Section II- 40 p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s per essay ques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% of 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w scores translated into composite scores---then to AP number grade 1-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50:16Z</dcterms:created>
  <dc:creator>Lauren  Hansell</dc:creator>
  <dc:description/>
  <dc:language>en-US</dc:language>
  <cp:lastModifiedBy>moranc</cp:lastModifiedBy>
  <dcterms:modified xsi:type="dcterms:W3CDTF">2010-05-07T11:02:41Z</dcterms:modified>
  <cp:revision>2</cp:revision>
  <dc:subject/>
  <dc:title>Facts About the AP Biology Exam</dc:title>
</cp:coreProperties>
</file>